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32D-BA4E-409F-993D-F19FFE32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F4C-9F90-4A65-A19B-FF382393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656-769E-4BD5-B2A5-036310F4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8EA-47C3-490F-B460-D57F879C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D4E-7A86-4E4A-B7D7-F982718A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4938-95B7-43DA-AD93-AFD66E0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F329-3883-4ED2-99EB-793782B4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2AF-EADD-4D3E-B289-2354E42C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149-06D6-44BA-B71A-ED1EDBEE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136-9784-4AD4-BDD8-44C92FE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F4B5-EA79-4D86-BAEF-C9871C5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060-BA1E-44BF-A767-5B95C20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E1F2-68F2-45A2-818F-00FEBFE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65E2-9991-4C61-BBB4-FFB1083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A97-1606-46AB-A1F4-AC3F85B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3A1-AD75-4C6D-819A-A8B76E3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EF7-99AE-4825-B3DC-0FC74FEF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0C15-4C19-4A71-BC2B-E44C13E4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86FB-C6BD-4A18-A987-07EA6B66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B474-946B-45F4-B06C-D55A7E2E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3BBD-5C89-48BF-A404-9FBEEB43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F42F-89D5-4FF8-AB38-F30C3DA5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AA9-1B5F-43CA-A343-5D65C909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55C9-2716-43E1-8961-F29E0E5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071B-4FF4-4792-8A03-AF371A8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5FF9-0AE3-4BD4-A36A-4E7AA6E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651A-0BA7-4849-BB45-960F3B7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ABE4-EDFF-4D8C-88D8-B1F4BAC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88FA-71CA-4B18-9F2E-3D80FD2D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B415-BA0F-4C26-898A-794F93AF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BD83-C2BC-4134-ADD3-C82AC9EA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F6CF-7F25-43BF-AF2D-E0B166D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EA8BD-F59A-4B70-9937-530F4DB6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C8E-F85B-487B-B31C-168F055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84D7-E5E6-44DC-9A62-02F82DDE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B50A-64F9-40A1-A910-D98FF30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F778-00E8-4472-9B28-AF14D549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3D59-C2D0-4B6E-BFB9-7DAE453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E349-228F-4354-91C8-0B56517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E395-28CF-415F-BDBB-8DC6F31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D692-9176-4F01-8026-3ABF2E7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4106-CD9F-4BA3-8D77-03551BB4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F1ED-9820-4977-8756-F506628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1AF-8DA5-4F47-BAA9-09718765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29D-1F02-412C-9AB8-93A16E08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1DD-D013-42ED-9515-8FCC83F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FE2-6A49-4AF9-9E6B-803A4FC1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801-1868-4136-8FD0-774E5834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FDC-CE8B-4FB1-AA97-72C5674026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5DD-365E-4C5A-8086-367F247D63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16E5-C041-4BA8-A9D5-D9420154C92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944B-EC86-4E39-9D9D-6916971EE6A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55600" y="1255680"/>
            <a:ext cx="87361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m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ck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te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4"/>
          <p:cNvSpPr/>
          <p:nvPr/>
        </p:nvSpPr>
        <p:spPr>
          <a:xfrm>
            <a:off x="3962520" y="23623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523880" y="28195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276720" y="441972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-19080" y="530280"/>
            <a:ext cx="87123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. 12.3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2743200" y="396252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024440" y="3124080"/>
            <a:ext cx="13716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2209680" y="30481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225360"/>
            <a:ext cx="8253360" cy="1432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7"/>
          <p:cNvSpPr/>
          <p:nvPr/>
        </p:nvSpPr>
        <p:spPr>
          <a:xfrm>
            <a:off x="990720" y="281952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5964"/>
                </a:solidFill>
                <a:latin typeface="Constantia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2286000" y="182880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457200" y="1752480"/>
            <a:ext cx="13716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0"/>
          <p:cNvSpPr/>
          <p:nvPr/>
        </p:nvSpPr>
        <p:spPr>
          <a:xfrm>
            <a:off x="5562720" y="1676520"/>
            <a:ext cx="167616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191120" y="50292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Projectil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6781680" y="3886200"/>
            <a:ext cx="144792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s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1676520" y="36576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4114800" y="2514600"/>
            <a:ext cx="2209680" cy="3682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5964"/>
                </a:solidFill>
                <a:latin typeface="Constantia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914400" y="5181480"/>
            <a:ext cx="160020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6"/>
          <p:cNvSpPr/>
          <p:nvPr/>
        </p:nvSpPr>
        <p:spPr>
          <a:xfrm>
            <a:off x="457200" y="4343400"/>
            <a:ext cx="167652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7010280" y="2209680"/>
            <a:ext cx="1676520" cy="37008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7010280" y="2971800"/>
            <a:ext cx="16002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h. 12.4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066680" y="2971800"/>
            <a:ext cx="221004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2209680" y="205740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457200" y="2133720"/>
            <a:ext cx="137160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1981080" y="4572000"/>
            <a:ext cx="221004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"/>
          <p:cNvSpPr/>
          <p:nvPr/>
        </p:nvSpPr>
        <p:spPr>
          <a:xfrm>
            <a:off x="4343400" y="2971800"/>
            <a:ext cx="2209680" cy="369720"/>
          </a:xfrm>
          <a:prstGeom prst="rect">
            <a:avLst/>
          </a:prstGeom>
          <a:noFill/>
          <a:ln w="381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Wor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Defini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6094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2:33:17Z</dcterms:created>
  <dc:creator>Cetta</dc:creator>
  <dc:description/>
  <dc:language>en-US</dc:language>
  <cp:lastModifiedBy>Cetta</cp:lastModifiedBy>
  <dcterms:modified xsi:type="dcterms:W3CDTF">2010-10-27T03:15:59Z</dcterms:modified>
  <cp:revision>7</cp:revision>
  <dc:subject/>
  <dc:title>Title of online vocab book Ch. 12</dc:title>
</cp:coreProperties>
</file>